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B9EA-A730-4425-B3A9-1C31AAA937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6FCD-B16F-4DC3-903B-970C7082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8F209E-CD55-4CFB-93A2-B4B8582C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06DD56-5C06-4A2F-9C79-660741B8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7684E4-AA49-4C19-BA5D-9AC05EE7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7799B6-183F-4289-8159-3E61DFC4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A96720-FB14-4A36-BAF0-EB0A945A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B74A3E-ABB0-4B70-8DA9-9C732022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66765E-5677-4344-8DE5-5FBD699D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F21066-1274-4CD7-B5E0-41C781D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F4BAF-4390-44DB-A7BC-4DD92A521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0676C-B245-4EE4-B8EE-44444D7CB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3B16-775A-402F-A253-20CE93B3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20265-063A-446A-B7AE-B8215990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5A37E-EE87-472A-B906-85976E0D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1BF81-EC6A-4A28-A494-0CD2BBE8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CA1E1-5D6C-4606-85F7-E518C37B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3190C-9EBB-47F9-9A6F-1AF7E164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72D36-AAF5-4735-BECF-7F052B88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DBB25-2BD0-4C43-87BF-30A8D2ED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1A195-F376-4474-8D6F-8B5B315A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BB601-A594-4531-A7D5-06BB4764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0C304-55AF-466A-9D5A-FE7001C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3C06-1D3F-40B0-BEFF-FB5981048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82E70-08D3-4836-8027-FB21BCAA3D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B8F8CB-E4D2-4F36-B7C4-660B6F70AA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A9C0E-A1CB-4524-AEC3-82807782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FCCAA5-A367-4669-8ECC-7587AF91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0626CC-E907-4BF1-A0E8-63D4F392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EDBBEC-6FDF-48B8-A4AB-B8E8A1C9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03A55E-0D4A-49F9-801F-EE56610F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10C79-EC3A-4A87-A239-0B6B45BC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0D1B70-2235-42A3-BF17-249ABBC3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46BDB8-D4CA-48E1-B049-79296B96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81C20-6EB1-494E-AED4-3C29323F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38123E-B6FB-40BB-8818-055ABB2D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C35AF9-FC4B-4C6E-93D4-5943A263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BD319B-BF87-4CB6-9547-3F80348433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32DBE-E52E-4F94-A919-A4AC02A18D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6F54B-3C3A-4907-A723-0BB481E1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79C7E-64C8-4C48-A287-6A8E9040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8FEA9-78E8-459A-8F17-4211B7F6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C0D12-453B-4D8C-BFB4-A24B9C69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FEEF1-EE78-490A-9F72-FDAED8A1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9264F-132F-4629-B7B3-1ADE36E3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B7F41-04E8-4FB5-9B3B-C0A6130A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D69FC-3445-4AAE-947B-AA831ECF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7CB50-F0EC-49C4-9E51-7748E75D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3F9FB-AED2-4B99-AAF8-B3D3213D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86566-4C45-451F-9E92-14F6A4B8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D6CE7-971A-493F-8381-0125228D5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D2ECF-E110-4E09-8437-8DB375969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B951A-124F-4D30-B435-485F86F9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FC7CA-377B-4018-9316-28A18CAA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18A52-0C22-49A4-A9B5-8A21A429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A7298-C91A-40BA-B82E-1C97DECD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6A36F-299A-425D-8056-F7D766A7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6F89F-AE17-41D6-9EFB-22F4864E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F76FA-C50D-4698-A11E-9E7F8D37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EC067-B0D1-4452-ADDF-EA08F4F6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486E0-267B-404E-96E0-248C667F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3365A-45C8-436F-9E65-2A8006D3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2CABE-D0B4-40C0-A021-C02E8D35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AFF59-1983-4E07-B2AE-2AFC7A6EBC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E0FE8-418F-460B-B3B0-049431E8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26754-3099-48A5-B418-FE84F069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FDEDC-99CD-4485-B4C6-F94C8198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70704-D845-4BA5-B9B0-A8F9B693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7F730-B6D5-43E7-B3A6-99A72A91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4728F-71C2-4184-A8AA-3C57E69B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8ACE3-69FD-409E-99C1-4D1B2B65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33A25-3F96-407E-9A38-AFCDC07B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F9360-6FA7-4880-9E24-77684E27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C25C0-9BE2-440C-B12C-C52881A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C1706-AB9A-437E-8842-A327CAF8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484CC-44C3-4657-B8E3-B2067806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7FD57-6D33-4184-AC5D-14E6189E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12E59-F615-44C0-9D9B-1A9A4DCD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1B67D-FD26-4CA2-80B8-D0840006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46648-7DC4-48E0-9E55-809A0933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356BD-D25B-4E7C-B42C-F99861DF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EAFDA-48D9-479A-B2F0-DEB54D93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11CD6-1440-4ED2-BA24-D3410364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AB441-E119-4910-9C6E-3A66A4C9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47183-6BBC-4010-8D85-BA6B7CB6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65BDB-5036-44AB-A111-80B2FE87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99C64-C63C-4111-8DCE-F0F8209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46883-D13B-43AC-8E7F-4DD2CFD9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89217-C42E-417B-AE62-371C2672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FE322-00A2-4A16-B745-BADE8840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59E1A-EA06-4065-8445-DBE80248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4889D-EA7D-478F-A371-877EA51C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63DC8-EEF4-40D7-A13F-AE4BA157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F77E0-9448-4890-A44A-7418779C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94A3C-BADE-4943-B3FA-C4B67033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D0A85-D6D4-4009-83AB-D5579DBC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1D331-5FBE-49E3-A0B9-C5987727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E2459-F4AC-4720-BD52-0639B411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12C93-B328-40B5-8B9E-253B2347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4F826-B0AF-476B-8F2E-CAC29B97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BEF97-161F-4E96-8399-435E447E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07FAB-25E1-46D6-B88C-1AAAC7CF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83041-998B-4231-9741-497BE90D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0F245-5E88-41B3-85FD-D26966C5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150D9-6436-4D2A-ADDB-78E1C52C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38A6A-8D68-4074-94C9-36EFE1F8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8B82D-0FB0-467B-A436-FE4CD8C7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38EC3-F6F1-4CA5-B4EE-A1BBEEBE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D1743-C063-42E0-AB33-B374160C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A781C-1ED2-4C69-B3AF-571F8FEA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6132B-06EF-4C4B-8C76-D159627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67B1-511A-4DD8-B720-A1F90274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4FFFF-0247-44F9-83E8-7BBE22CB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A75B7-F96B-4738-A5D3-0DB80C12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2DDB6-05FB-46C1-A3D0-447DFBF0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B54F2-DFA1-4F1B-AA89-E1C2A607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6C829-F49B-4599-8353-68200558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DEEA3-C90E-4E4E-A23C-8650B228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97986-397A-4448-BFC3-A4F474E8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45AD2-1FCD-44A8-9F13-1712DE9B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1A345-E7E5-4019-AE98-8C2CF330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F818C-5EB3-43C1-9645-6C2B2414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528A8-A23B-4749-BA40-8FDC8850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6DC2F-2F4F-4C3B-8D9B-F8FC9983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CF0EC-F954-4C4E-BC00-0DC167A0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0E562-248F-4F20-BE80-40A15E11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DDB1C-05DB-4266-BFF7-B1758790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E90AE-BE73-4BE2-AEFB-59A3779A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2F751-BB1F-49F6-8147-875DD3AF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17271-2C70-4325-B1B7-19C6D154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18FD5-9E7B-4E5F-98FF-0E34BD75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73FDD-0246-4055-9F50-1D14B565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FB341-6161-4F62-84B9-9666E498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F36B4-90DE-4784-B38A-86BC233C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ADED6-4121-4523-811D-927FCEC7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F8C3F-2102-4B66-823F-9792011B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EE60C-3B18-49A9-9B7C-2A1B0F7D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0E11C-EF19-4235-8FEC-7E69EAA8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14919-86F2-4B84-9EE3-2EC6A7AD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36589-BCE8-40D4-A598-9B947857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72633-7919-4943-BA8D-6806B363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0C311-18A2-4B9E-A61E-691E019A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1D141-974B-46F3-B617-8258AA60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B9C9E-DA54-4971-82E3-A0035413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251F3-6EE5-4D23-8E9B-B8E9BDDC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75542-5795-4ACA-BC6A-5F533B81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D1675-DF2D-4BB6-A774-10E429A0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89BEF0-17E2-4DFF-AF1D-D0898810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2DBBE-1F87-4C06-A916-E3D65191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2488D-4118-406B-BCB3-551A872E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FFAA3-0C6C-48AC-A6A8-94EEE67B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25C27-C3FD-4944-A481-4D14DAA3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43C8D-A2A6-4193-9D72-91540B2F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FC745-18AC-49FC-A677-8FB62BD4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7C921-B35E-445E-B9D6-1A9AB96C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C35B2-900E-412D-AC3D-B05D5B66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49F32-B512-44A1-A311-764CBDCB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80668-DE43-42C5-A972-C4177DBD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AD74A-73A0-4492-8CF4-2C5918DF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58FAA-AC97-467F-83B0-C90E5E4C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6936D-DF95-47D6-BDCD-0F4525B4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A60DB2-0C31-4F54-9AC7-95A5E0CC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ADBB4-26AE-4B8F-A24A-F69000A6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623A4-B05E-46EA-B8E7-4664312B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181E09-4082-4525-8139-76A1A25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A948FB-74A2-4185-A1CB-BCF80478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CA672-D749-43E1-AE1E-E20304FD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687CA-E33C-45B3-A745-D57AB4D59F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C8479-D283-4903-84E5-6903553F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DEE2A-B604-49F0-ABA4-1789F872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C5ABB-028B-447D-ACB7-08680BF7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750037-7C6D-4F0E-8158-11A18038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6082A7-5029-402B-84B4-D05C86FB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5675C9-6001-4D56-9AAE-11EC7C56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151250-AA64-4360-B342-D8B28D45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88BECA-06D6-42C3-8519-84E10BF6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9AA3C-798A-4A0D-8D24-C9CB2BDB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858BC-D3C0-4B99-961D-2FDCD52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95EF2-B97C-4F86-9511-719DA236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11CC4F-A88F-4B56-A8D4-0D0FE383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005A7-5D15-4D83-A07A-C4FD5C66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F8469-1B89-4C0A-A74E-574C4116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CB8B8-02DB-4AEA-8D6A-0E10E0BC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DDA455-EBB7-4168-BD5E-D9074899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DAEBF-6423-4B2A-AE90-FFA88D96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43B631-D4BE-42FB-A9F1-E183F39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FBC920-4E60-41EA-ABEF-F8E6745A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D5AB8-248E-4829-8F1E-DA66511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CDF65-739C-4609-9623-9CDE97C2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BDCD5-E046-4051-BDA9-61E6B4B4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51D342-F035-42CA-A6C7-2A13695A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89BD2-4269-4BF9-91F1-D3DACC1E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5D0F3-A7C8-436D-9684-FC6239B5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617EB-D110-4524-B3DC-BF6D16E6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C77F60-8F75-403B-BD1C-9991E111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DB47C-8657-43D5-8219-D51A138E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C4BAD-7EFE-41AB-947B-898E1436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F28B60-FBAC-497D-9F70-64C81D67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ABAB1-F42A-4DB7-BADB-C485A7CC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701BC5-9B54-4038-B1E2-02740E80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FA559-E0C8-4F3F-920F-70F79182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D474C5-AEA1-45CB-B3FA-F4121222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B00E2-84DC-4966-84E8-B3B7B156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ED5B6B-FA30-47ED-A05A-D80587D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14F893-0F54-46DE-8BC6-3A2039AC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C64DE-9F28-4CDD-98C8-7017052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A604A0-B3E3-482C-A1C2-84B8AB87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DC1363-DA84-42B2-A76F-CC3CB1F6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3970F-0682-42CB-92FC-E5EB09AC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066FE-F165-4793-9B2A-13D344C8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B6B538-E9F1-4ECD-87B9-AE678F64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D270-2BE3-47AC-87C7-04927722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8492B-E8A0-487C-AD57-90093C80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E45622-7E26-492C-8204-05506215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CB9F75-7D8D-49C6-A278-461E5F4A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3632F-CB5D-4E8F-83DA-02F934AD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A607AA-C586-47CC-BDED-6BB2A351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92BBF3-5888-46BE-9F1D-72F82798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AC4FC-97A0-4A91-89E7-D7D7B59C4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DE37-0EC0-46B4-BC43-732895EC1E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3B0E-6487-472C-B4FD-B252DE48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B04DC-5C15-41D5-926C-045DA6B3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74D1-50D5-476B-9FE7-13E6B989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9968-598A-458F-A4B2-52BAE16B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0A424-B7AA-4B1E-930E-F824AE80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03287-0146-4A2C-B690-0502999D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14AE-0AE9-4E3B-8518-DD24841D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9C85-B599-492E-8E7E-B4581CE9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7BEE8-C12F-481B-ABF6-DAB71388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D90D-B7B4-4322-9B8B-C60AE390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2591-E54A-4598-9563-BB9C9001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C7D3-9F08-4E37-A64F-4D27A9DC9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54E59-DCC3-48CF-B222-BDF3E752A4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9699-7948-48EA-8D6C-FE85927D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7AFD7-8E94-4B3B-B7B3-89A20E20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9C29D-6F4C-40CC-946A-940E4604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FB81C-4C8E-4388-93B5-A9C46396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73EEF-01C5-4531-90B3-0B716C08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24ED27-7E60-459C-BAF9-D5200CAA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E40A4-26B6-40CF-8D67-5F36C5C4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1EFB7A-220F-4A41-A072-44C18A96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5C57D-7F5C-428E-AF3C-541F76DD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26B68-0E22-4FC9-9250-A96C4C22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B1AF4-E4A7-4ED7-8FAB-1873B2C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0209-46EF-4395-9D90-597D2A34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7BCE9-5DFD-44B5-9876-EC2797372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BCC607-D25E-4622-9F8B-C421C9F4BA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A93044-96D0-44A4-A36D-AEC9EBFF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AC4811-6EC7-4ED8-9605-03872EF9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9149B6-EF0E-4530-BED0-2D33A966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C8B76C-ACDA-4138-9F9F-41F704BD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F9DF4B-7813-49C3-9663-1B20D8E0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042DA8-2F97-4A46-8072-E07EAB75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45D204-8798-44E0-AFEF-536DAE80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C5C12B-2A9B-4E4D-8D24-A026552B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37DB-83CB-4027-BF3E-064B074F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3A89A5-EBEE-4CA9-B59C-D1600702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0872A0-3A80-4E57-A568-B86355C3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67E158-1E09-40DE-8558-A7558A8A1F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982CB-C77A-4F86-9E28-043C13C30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3E513-BEC9-452A-9663-6AD0383B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86346-9BCB-48FA-B6E3-1185A436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AFED6-3DE4-4406-8369-9E91ACBD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1BD0F-BA66-48DE-AC5A-A6235FBB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FE097-0F76-449B-AC2C-91AF5264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22C7-1F52-4FD8-A363-A8241BB2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3114-977D-4A18-84BA-ABC4CC06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36AFE-557A-4BA7-B89A-CD3CB89F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04E8F-45E6-4B15-8BF0-089F630F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123BF-18DE-49ED-B973-EFE69454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3ACDF-AF3B-44F9-B277-85FCFF38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2F0F4-551D-469E-ADFE-00E9E628D7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40AD4-1271-4F1C-AAC0-03FB1A784A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CEEB8-0886-4DFE-AA5A-BD3DD5B6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BE802-6491-489E-8DF6-5698777B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D94EB-209C-4C6D-B144-AE2B4173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F1E04E-C22F-48F9-9A31-F06EF706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BCA5-8448-4526-93DE-C3F73115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EF559-D7A3-4A66-BEB6-A88EA69F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3C379-68A5-4F54-A764-B4D01D69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E3AEE-EC19-447B-BEC3-84541DBC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C1B50-5F7D-4CE7-8976-1CE86D4E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CEC18-92F6-4239-AB16-F31CB4BF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3B471-720C-414B-8706-2C8E7856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FA2C9-25E9-4884-90D4-F1AAB5ECF6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6F3937-043E-457B-B226-DA798FB8D2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981F7A-BAD5-4954-8172-13D4FA7B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25AB02-BF2C-4C0E-B086-60F94419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9D0F-0D2A-4535-BAEB-DA898232C1A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139C-47D9-431F-B703-4D08345141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D922-5AEE-4BF1-A6D1-01B30AF805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446A-4A70-41EE-ABC1-0C61DD4424E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0013-80DA-475A-9048-FD8F20507B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4B77-88C9-46FD-ADCD-F3B18E706F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1668-3CD0-4046-A7E7-553670A015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F1E9-63FC-4DF3-B11F-6A74AD0DE9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A6A0-7F7B-480C-A282-9F6816C10A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F8DC-DA7B-42AC-A4F4-650C95F9C3C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D028-ED7A-4B9A-87F8-8AD82F5820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1814-80CB-401B-8D86-738A59B0D7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DDAE-F9AB-4E33-9329-B55B9BF8604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8096-1552-43A2-A6E8-5F28A8E0AD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4714-7F59-4219-BEEA-265733422E3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9AF9-117F-4195-8FFA-75B79005AE6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4C2E-5C45-43F7-AFA1-5FF4BA52A6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60A3-DBA8-424A-84F4-63E1732FB1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B57D-B9D4-466C-B2A9-D95AECB8C8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ADA6-1BB2-4F90-9A41-4A2C3960C1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746B-009D-4AB9-A74E-49C7330C48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82B4-0E49-4AAE-A50F-DDB026E1A9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FA90-2A42-4E8F-A039-AC5CAF3FD5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15BF-676B-4531-9118-F02B67C649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30508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亿 以 内 数 的 写 法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2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99"/>
          <p:cNvSpPr/>
          <p:nvPr/>
        </p:nvSpPr>
        <p:spPr>
          <a:xfrm>
            <a:off x="289080" y="735120"/>
            <a:ext cx="8275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填一填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写数时，从（    ）位写起，哪一位上什么数也没有，就在那一位上写（     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2. 5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一百万、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十万、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一万和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一千组成的数是（            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个六位数，它的最高位是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，万位上的数是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，个位上的数是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，其他各位上的数都是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，这个数是（         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写六千零四万零五百这个数时，要写（      ）个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百万、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万组成的数是（           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万少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数写作（             ）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1"/>
          <p:cNvSpPr/>
          <p:nvPr/>
        </p:nvSpPr>
        <p:spPr>
          <a:xfrm>
            <a:off x="2365200" y="1371600"/>
            <a:ext cx="50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2"/>
          <p:cNvSpPr/>
          <p:nvPr/>
        </p:nvSpPr>
        <p:spPr>
          <a:xfrm>
            <a:off x="1941480" y="1871640"/>
            <a:ext cx="50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3"/>
          <p:cNvSpPr/>
          <p:nvPr/>
        </p:nvSpPr>
        <p:spPr>
          <a:xfrm>
            <a:off x="849240" y="287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5735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4"/>
          <p:cNvSpPr/>
          <p:nvPr/>
        </p:nvSpPr>
        <p:spPr>
          <a:xfrm>
            <a:off x="4756320" y="38908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460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6"/>
          <p:cNvSpPr/>
          <p:nvPr/>
        </p:nvSpPr>
        <p:spPr>
          <a:xfrm>
            <a:off x="5681520" y="4386240"/>
            <a:ext cx="35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7"/>
          <p:cNvSpPr/>
          <p:nvPr/>
        </p:nvSpPr>
        <p:spPr>
          <a:xfrm>
            <a:off x="4815000" y="4921200"/>
            <a:ext cx="131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300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8"/>
          <p:cNvSpPr/>
          <p:nvPr/>
        </p:nvSpPr>
        <p:spPr>
          <a:xfrm>
            <a:off x="3633840" y="5384880"/>
            <a:ext cx="131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999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009" name=""/>
          <p:cNvGraphicFramePr/>
          <p:nvPr/>
        </p:nvGraphicFramePr>
        <p:xfrm>
          <a:off x="609480" y="1476360"/>
          <a:ext cx="7620120" cy="2362320"/>
        </p:xfrm>
        <a:graphic>
          <a:graphicData uri="http://schemas.openxmlformats.org/drawingml/2006/table">
            <a:tbl>
              <a:tblPr/>
              <a:tblGrid>
                <a:gridCol w="790560"/>
                <a:gridCol w="731880"/>
                <a:gridCol w="765000"/>
                <a:gridCol w="760680"/>
                <a:gridCol w="761760"/>
                <a:gridCol w="762120"/>
                <a:gridCol w="760320"/>
                <a:gridCol w="765360"/>
                <a:gridCol w="760320"/>
                <a:gridCol w="762120"/>
              </a:tblGrid>
              <a:tr h="81108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亿  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7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万  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7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个  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7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10" name="TextBox 9"/>
          <p:cNvSpPr/>
          <p:nvPr/>
        </p:nvSpPr>
        <p:spPr>
          <a:xfrm>
            <a:off x="7529400" y="2428920"/>
            <a:ext cx="7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10"/>
          <p:cNvSpPr/>
          <p:nvPr/>
        </p:nvSpPr>
        <p:spPr>
          <a:xfrm>
            <a:off x="6691320" y="2428920"/>
            <a:ext cx="7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11"/>
          <p:cNvSpPr/>
          <p:nvPr/>
        </p:nvSpPr>
        <p:spPr>
          <a:xfrm>
            <a:off x="5915160" y="2428920"/>
            <a:ext cx="69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12"/>
          <p:cNvSpPr/>
          <p:nvPr/>
        </p:nvSpPr>
        <p:spPr>
          <a:xfrm>
            <a:off x="5181480" y="2428920"/>
            <a:ext cx="7002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13"/>
          <p:cNvSpPr/>
          <p:nvPr/>
        </p:nvSpPr>
        <p:spPr>
          <a:xfrm>
            <a:off x="4405320" y="2428920"/>
            <a:ext cx="71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14"/>
          <p:cNvSpPr/>
          <p:nvPr/>
        </p:nvSpPr>
        <p:spPr>
          <a:xfrm>
            <a:off x="3643200" y="2428920"/>
            <a:ext cx="714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十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15"/>
          <p:cNvSpPr/>
          <p:nvPr/>
        </p:nvSpPr>
        <p:spPr>
          <a:xfrm>
            <a:off x="2895480" y="2428920"/>
            <a:ext cx="7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百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16"/>
          <p:cNvSpPr/>
          <p:nvPr/>
        </p:nvSpPr>
        <p:spPr>
          <a:xfrm>
            <a:off x="2133720" y="2428920"/>
            <a:ext cx="714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17"/>
          <p:cNvSpPr/>
          <p:nvPr/>
        </p:nvSpPr>
        <p:spPr>
          <a:xfrm>
            <a:off x="1371600" y="2428920"/>
            <a:ext cx="7142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20519"/>
          <p:cNvSpPr/>
          <p:nvPr/>
        </p:nvSpPr>
        <p:spPr>
          <a:xfrm>
            <a:off x="4082760" y="789120"/>
            <a:ext cx="11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指名说出亿以内数的数位顺序表，并说一说是怎样分级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20520"/>
          <p:cNvSpPr/>
          <p:nvPr/>
        </p:nvSpPr>
        <p:spPr>
          <a:xfrm>
            <a:off x="2629440" y="4141800"/>
            <a:ext cx="230220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读出下面各数，并说一说怎样读亿以内的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0000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301200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00105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8"/>
          <p:cNvSpPr/>
          <p:nvPr/>
        </p:nvSpPr>
        <p:spPr>
          <a:xfrm>
            <a:off x="3200400" y="467532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读作：三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9"/>
          <p:cNvSpPr/>
          <p:nvPr/>
        </p:nvSpPr>
        <p:spPr>
          <a:xfrm>
            <a:off x="3200400" y="5208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读作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四百三十万一千二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10"/>
          <p:cNvSpPr/>
          <p:nvPr/>
        </p:nvSpPr>
        <p:spPr>
          <a:xfrm>
            <a:off x="3200400" y="5742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读作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四千零一万零五百二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21"/>
          <p:cNvSpPr/>
          <p:nvPr/>
        </p:nvSpPr>
        <p:spPr>
          <a:xfrm>
            <a:off x="1020960" y="1224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文本框 21505"/>
          <p:cNvSpPr/>
          <p:nvPr/>
        </p:nvSpPr>
        <p:spPr>
          <a:xfrm>
            <a:off x="3300120" y="631800"/>
            <a:ext cx="1265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写出下面各数，并说一说怎样写万以内的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五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九百零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21506"/>
          <p:cNvSpPr/>
          <p:nvPr/>
        </p:nvSpPr>
        <p:spPr>
          <a:xfrm>
            <a:off x="533520" y="3184560"/>
            <a:ext cx="856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万以内数的写法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从高位写起，按照数位顺序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几千就在千位上写几，几百就在百位上写几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中间或末尾哪一位上一个单位也没有，就在那一位上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21507"/>
          <p:cNvSpPr/>
          <p:nvPr/>
        </p:nvSpPr>
        <p:spPr>
          <a:xfrm>
            <a:off x="3430440" y="1360440"/>
            <a:ext cx="1005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1508"/>
          <p:cNvSpPr/>
          <p:nvPr/>
        </p:nvSpPr>
        <p:spPr>
          <a:xfrm>
            <a:off x="3430080" y="1905120"/>
            <a:ext cx="11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1509"/>
          <p:cNvSpPr/>
          <p:nvPr/>
        </p:nvSpPr>
        <p:spPr>
          <a:xfrm>
            <a:off x="3429720" y="2308320"/>
            <a:ext cx="13586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1" name="Rectangle 21"/>
          <p:cNvSpPr/>
          <p:nvPr/>
        </p:nvSpPr>
        <p:spPr>
          <a:xfrm>
            <a:off x="161892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22534"/>
          <p:cNvSpPr/>
          <p:nvPr/>
        </p:nvSpPr>
        <p:spPr>
          <a:xfrm>
            <a:off x="533520" y="1066680"/>
            <a:ext cx="57909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北京大钟寺的永乐大钟的内外共铸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二十三万零一百八十四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个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图片 22535" descr="3"/>
          <p:cNvPicPr/>
          <p:nvPr/>
        </p:nvPicPr>
        <p:blipFill>
          <a:blip r:embed="rId8"/>
          <a:stretch/>
        </p:blipFill>
        <p:spPr>
          <a:xfrm>
            <a:off x="5943600" y="692280"/>
            <a:ext cx="2514600" cy="1685880"/>
          </a:xfrm>
          <a:prstGeom prst="rect">
            <a:avLst/>
          </a:prstGeom>
          <a:ln w="0">
            <a:noFill/>
          </a:ln>
        </p:spPr>
      </p:pic>
      <p:sp>
        <p:nvSpPr>
          <p:cNvPr id="1044" name="八边形 7"/>
          <p:cNvSpPr/>
          <p:nvPr/>
        </p:nvSpPr>
        <p:spPr>
          <a:xfrm>
            <a:off x="600120" y="70020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1"/>
          <p:cNvGrpSpPr/>
          <p:nvPr/>
        </p:nvGrpSpPr>
        <p:grpSpPr>
          <a:xfrm>
            <a:off x="441360" y="3011400"/>
            <a:ext cx="1883880" cy="459720"/>
            <a:chOff x="441360" y="3011400"/>
            <a:chExt cx="1883880" cy="459720"/>
          </a:xfrm>
        </p:grpSpPr>
        <p:sp>
          <p:nvSpPr>
            <p:cNvPr id="1046" name="TextBox 3"/>
            <p:cNvSpPr/>
            <p:nvPr/>
          </p:nvSpPr>
          <p:spPr>
            <a:xfrm>
              <a:off x="545760" y="301140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缺角矩形 37"/>
            <p:cNvSpPr/>
            <p:nvPr/>
          </p:nvSpPr>
          <p:spPr>
            <a:xfrm>
              <a:off x="441360" y="313200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文本框 3"/>
          <p:cNvSpPr/>
          <p:nvPr/>
        </p:nvSpPr>
        <p:spPr>
          <a:xfrm>
            <a:off x="665280" y="3573360"/>
            <a:ext cx="80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十三万零一百八十四的最高位是十万位，是一个六位数，可以借助数位顺序表分级去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组合 38"/>
          <p:cNvGrpSpPr/>
          <p:nvPr/>
        </p:nvGrpSpPr>
        <p:grpSpPr>
          <a:xfrm>
            <a:off x="365040" y="819000"/>
            <a:ext cx="2147760" cy="459720"/>
            <a:chOff x="365040" y="819000"/>
            <a:chExt cx="2147760" cy="459720"/>
          </a:xfrm>
        </p:grpSpPr>
        <p:sp>
          <p:nvSpPr>
            <p:cNvPr id="1050" name="TextBox 3"/>
            <p:cNvSpPr/>
            <p:nvPr/>
          </p:nvSpPr>
          <p:spPr>
            <a:xfrm>
              <a:off x="469440" y="819000"/>
              <a:ext cx="20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缺角矩形 40"/>
            <p:cNvSpPr/>
            <p:nvPr/>
          </p:nvSpPr>
          <p:spPr>
            <a:xfrm>
              <a:off x="365040" y="93960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文本框 1"/>
          <p:cNvSpPr/>
          <p:nvPr/>
        </p:nvSpPr>
        <p:spPr>
          <a:xfrm>
            <a:off x="446040" y="1380960"/>
            <a:ext cx="810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数位顺序表中写数时，从高位写起，先写万级，再写个级，哪个数位上一个单位也没有，就在那个数位上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占位。例如，二十三万零一百八十四的最高位是十万位，在十万位上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在万位上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这样在万级上写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；个级的千位上一个计数单位也没有，就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占位，百位上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十位上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个位上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这样在个级上写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8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因此，二十三万零一百八十四写作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018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7178760" y="2664000"/>
            <a:ext cx="1584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2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400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6"/>
          <p:cNvSpPr/>
          <p:nvPr/>
        </p:nvSpPr>
        <p:spPr>
          <a:xfrm>
            <a:off x="457200" y="824040"/>
            <a:ext cx="813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请你用刚才学到的方法写出下面三个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7"/>
          <p:cNvSpPr/>
          <p:nvPr/>
        </p:nvSpPr>
        <p:spPr>
          <a:xfrm>
            <a:off x="457200" y="4686480"/>
            <a:ext cx="8205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请同桌互相说一个亿以内的数，然后写出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图片 23556" descr="17"/>
          <p:cNvPicPr/>
          <p:nvPr/>
        </p:nvPicPr>
        <p:blipFill>
          <a:blip r:embed="rId1"/>
          <a:stretch/>
        </p:blipFill>
        <p:spPr>
          <a:xfrm>
            <a:off x="380880" y="1555920"/>
            <a:ext cx="6550200" cy="27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24577" descr="3"/>
          <p:cNvPicPr/>
          <p:nvPr/>
        </p:nvPicPr>
        <p:blipFill>
          <a:blip r:embed="rId1"/>
          <a:stretch/>
        </p:blipFill>
        <p:spPr>
          <a:xfrm>
            <a:off x="152280" y="20574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58" name="圆角矩形标注 4"/>
          <p:cNvSpPr/>
          <p:nvPr/>
        </p:nvSpPr>
        <p:spPr>
          <a:xfrm>
            <a:off x="1995480" y="766800"/>
            <a:ext cx="6005520" cy="1928880"/>
          </a:xfrm>
          <a:prstGeom prst="wedgeRoundRectCallout">
            <a:avLst>
              <a:gd name="adj1" fmla="val -47620"/>
              <a:gd name="adj2" fmla="val 74444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看这个数有几级，这个数有两级，先在万级上写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再在个级上写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3" descr="D:\我的文档-桌面-收藏夹\桌面\u=3443608340,1363311291&amp;fm=23&amp;gp=0.jpg"/>
          <p:cNvPicPr/>
          <p:nvPr/>
        </p:nvPicPr>
        <p:blipFill>
          <a:blip r:embed="rId2"/>
          <a:stretch/>
        </p:blipFill>
        <p:spPr>
          <a:xfrm>
            <a:off x="7818480" y="4224240"/>
            <a:ext cx="1020600" cy="2286000"/>
          </a:xfrm>
          <a:prstGeom prst="rect">
            <a:avLst/>
          </a:prstGeom>
          <a:ln w="0">
            <a:noFill/>
          </a:ln>
        </p:spPr>
      </p:pic>
      <p:sp>
        <p:nvSpPr>
          <p:cNvPr id="1060" name="圆角矩形标注 7"/>
          <p:cNvSpPr/>
          <p:nvPr/>
        </p:nvSpPr>
        <p:spPr>
          <a:xfrm>
            <a:off x="2746440" y="3581280"/>
            <a:ext cx="5072040" cy="1071720"/>
          </a:xfrm>
          <a:prstGeom prst="wedgeRoundRectCallout">
            <a:avLst>
              <a:gd name="adj1" fmla="val 45189"/>
              <a:gd name="adj2" fmla="val 97699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千位上一个单位也没有，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24581"/>
          <p:cNvSpPr/>
          <p:nvPr/>
        </p:nvSpPr>
        <p:spPr>
          <a:xfrm>
            <a:off x="4226040" y="1557360"/>
            <a:ext cx="79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24582"/>
          <p:cNvSpPr/>
          <p:nvPr/>
        </p:nvSpPr>
        <p:spPr>
          <a:xfrm>
            <a:off x="2487240" y="2209680"/>
            <a:ext cx="11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184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6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74" name="组合 25601"/>
          <p:cNvGrpSpPr/>
          <p:nvPr/>
        </p:nvGrpSpPr>
        <p:grpSpPr>
          <a:xfrm>
            <a:off x="792000" y="303120"/>
            <a:ext cx="8046720" cy="2513880"/>
            <a:chOff x="792000" y="303120"/>
            <a:chExt cx="8046720" cy="2513880"/>
          </a:xfrm>
        </p:grpSpPr>
        <p:grpSp>
          <p:nvGrpSpPr>
            <p:cNvPr id="1075" name="组合 25602"/>
            <p:cNvGrpSpPr/>
            <p:nvPr/>
          </p:nvGrpSpPr>
          <p:grpSpPr>
            <a:xfrm>
              <a:off x="792000" y="1233720"/>
              <a:ext cx="7565040" cy="1583280"/>
              <a:chOff x="792000" y="1233720"/>
              <a:chExt cx="7565040" cy="1583280"/>
            </a:xfrm>
          </p:grpSpPr>
          <p:sp>
            <p:nvSpPr>
              <p:cNvPr id="1076" name="圆角矩形 25603"/>
              <p:cNvSpPr/>
              <p:nvPr/>
            </p:nvSpPr>
            <p:spPr>
              <a:xfrm>
                <a:off x="792000" y="1233720"/>
                <a:ext cx="7565040" cy="158328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文本框 25604"/>
              <p:cNvSpPr/>
              <p:nvPr/>
            </p:nvSpPr>
            <p:spPr>
              <a:xfrm>
                <a:off x="792000" y="1381680"/>
                <a:ext cx="7563240" cy="9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.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先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____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级，再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____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级；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.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哪个数位上一个单位也没有，就在那个数位上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____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8" name="TextBox 8"/>
            <p:cNvSpPr/>
            <p:nvPr/>
          </p:nvSpPr>
          <p:spPr>
            <a:xfrm>
              <a:off x="888840" y="303120"/>
              <a:ext cx="794988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TextBox 10"/>
          <p:cNvSpPr/>
          <p:nvPr/>
        </p:nvSpPr>
        <p:spPr>
          <a:xfrm>
            <a:off x="1738440" y="129708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11"/>
          <p:cNvSpPr/>
          <p:nvPr/>
        </p:nvSpPr>
        <p:spPr>
          <a:xfrm>
            <a:off x="3336840" y="1297080"/>
            <a:ext cx="5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14"/>
          <p:cNvSpPr/>
          <p:nvPr/>
        </p:nvSpPr>
        <p:spPr>
          <a:xfrm>
            <a:off x="6654960" y="1754280"/>
            <a:ext cx="43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25609"/>
          <p:cNvSpPr/>
          <p:nvPr/>
        </p:nvSpPr>
        <p:spPr>
          <a:xfrm>
            <a:off x="1973520" y="666720"/>
            <a:ext cx="399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请以小组为单位讨论：含有两级的数怎样写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"/>
          <p:cNvSpPr/>
          <p:nvPr/>
        </p:nvSpPr>
        <p:spPr>
          <a:xfrm>
            <a:off x="7254720" y="3889440"/>
            <a:ext cx="172728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67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0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200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组合 25613"/>
          <p:cNvGrpSpPr/>
          <p:nvPr/>
        </p:nvGrpSpPr>
        <p:grpSpPr>
          <a:xfrm>
            <a:off x="457200" y="3214800"/>
            <a:ext cx="7993080" cy="3036240"/>
            <a:chOff x="457200" y="3214800"/>
            <a:chExt cx="7993080" cy="3036240"/>
          </a:xfrm>
        </p:grpSpPr>
        <p:pic>
          <p:nvPicPr>
            <p:cNvPr id="1085" name="图片 25614" descr="18"/>
            <p:cNvPicPr/>
            <p:nvPr/>
          </p:nvPicPr>
          <p:blipFill>
            <a:blip r:embed="rId8"/>
            <a:stretch/>
          </p:blipFill>
          <p:spPr>
            <a:xfrm>
              <a:off x="515880" y="3385800"/>
              <a:ext cx="6529320" cy="28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Box 7"/>
            <p:cNvSpPr/>
            <p:nvPr/>
          </p:nvSpPr>
          <p:spPr>
            <a:xfrm>
              <a:off x="457200" y="3214800"/>
              <a:ext cx="799308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"/>
                            </p:stCondLst>
                            <p:childTnLst>
                              <p:par>
                                <p:cTn id="1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9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32"/>
          <p:cNvSpPr/>
          <p:nvPr/>
        </p:nvSpPr>
        <p:spPr>
          <a:xfrm>
            <a:off x="351000" y="1093680"/>
            <a:ext cx="844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含有两级的数的写法：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从高位写起，先写万级。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哪个数位上一个单位也没有，就在那个数位上写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检验所写的数是否正确的方法：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把写出的数读一遍，看与题目是否一致。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根据最高位判断是几位数，再依次核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2:47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